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5C98-4563-45BC-9678-8427F0207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C16A-311E-471A-A503-D220A1F35C0C}" type="slidenum">
              <a:rPr b="0" lang="en-US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5B00-5F07-48FF-8BC8-0BCFC973A8F4}" type="slidenum">
              <a:rPr b="0" lang="en-US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A788-1959-4691-9567-AC26DB0C8FC0}" type="slidenum">
              <a:rPr b="0" lang="en-US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219D-048D-49FF-83C0-8A0DBBEC1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AA9C-E13F-4A04-A046-1FE0023C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2FF-78DD-483D-AB8B-F9C49422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284C-DC89-41B0-9041-176BFF64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45ED-EC2D-490F-ADF2-3610A06B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053C-EA8B-4D6D-B84B-0A8D2637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017B-34DF-46AC-8E9F-C942A21E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0A21-BF23-4309-AD87-FA4E118B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422B-10E3-4648-A300-0D021794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F9D8-ADC7-49B4-8CFB-C9C01066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D39E-B6D2-47B5-B9B7-65C5E751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B3EF-D994-424B-9D90-4156C26F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7CF6-4725-4B55-9FD2-6FC74D87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A533-B35C-4638-AC51-C4DFE8B3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E389-C4C8-4201-A7C7-A1D97DDC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5CCE-8BE6-40EC-B862-84F31AD6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11F5-F7C0-4C2D-9DD2-DD49DB12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1F1F-8384-4BCF-BB1A-92BD6017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08D8-4DF3-4C79-9E59-83C00AB4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B60-3C56-42FE-8568-DD61D7D5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2B99-77B7-4946-99D0-F56A2C61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C0B7-3E61-4121-96B1-7886DB4F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CDD-F718-43EC-9A02-5AED25FC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0D00-AF2E-475C-9FF8-52DEA986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64520" cy="6867360"/>
            <a:chOff x="0" y="0"/>
            <a:chExt cx="916452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4557600" cy="343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32240"/>
              <a:ext cx="4556160" cy="34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5240" y="0"/>
              <a:ext cx="4557600" cy="343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5240" y="3432240"/>
              <a:ext cx="4557600" cy="3419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91960" y="330120"/>
              <a:ext cx="8566200" cy="6203880"/>
            </a:xfrm>
            <a:prstGeom prst="rect">
              <a:avLst/>
            </a:prstGeom>
            <a:noFill/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396720" y="425520"/>
              <a:ext cx="8356680" cy="601344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66560" y="500040"/>
              <a:ext cx="8212320" cy="585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8" name="Group 10"/>
            <p:cNvGrpSpPr/>
            <p:nvPr/>
          </p:nvGrpSpPr>
          <p:grpSpPr>
            <a:xfrm>
              <a:off x="4106880" y="0"/>
              <a:ext cx="900000" cy="534960"/>
              <a:chOff x="4106880" y="0"/>
              <a:chExt cx="900000" cy="534960"/>
            </a:xfrm>
          </p:grpSpPr>
          <p:sp>
            <p:nvSpPr>
              <p:cNvPr id="9" name="Freeform 11"/>
              <p:cNvSpPr/>
              <p:nvPr/>
            </p:nvSpPr>
            <p:spPr>
              <a:xfrm>
                <a:off x="485460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95" y="0"/>
                    </a:moveTo>
                    <a:lnTo>
                      <a:pt x="95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470520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5561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4067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425772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410688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5" y="336"/>
                    </a:lnTo>
                    <a:lnTo>
                      <a:pt x="9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4106880" y="6345360"/>
              <a:ext cx="900000" cy="522000"/>
              <a:chOff x="4106880" y="6345360"/>
              <a:chExt cx="900000" cy="522000"/>
            </a:xfrm>
          </p:grpSpPr>
          <p:sp>
            <p:nvSpPr>
              <p:cNvPr id="16" name="Freeform 18"/>
              <p:cNvSpPr/>
              <p:nvPr/>
            </p:nvSpPr>
            <p:spPr>
              <a:xfrm>
                <a:off x="485460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95" y="328"/>
                    </a:moveTo>
                    <a:lnTo>
                      <a:pt x="95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5" y="328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70520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45561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4067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425772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410688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5" y="0"/>
                    </a:lnTo>
                    <a:lnTo>
                      <a:pt x="95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0" y="2913120"/>
              <a:ext cx="496800" cy="1058760"/>
              <a:chOff x="0" y="2913120"/>
              <a:chExt cx="496800" cy="1058760"/>
            </a:xfrm>
          </p:grpSpPr>
          <p:sp>
            <p:nvSpPr>
              <p:cNvPr id="23" name="Freeform 25"/>
              <p:cNvSpPr/>
              <p:nvPr/>
            </p:nvSpPr>
            <p:spPr>
              <a:xfrm>
                <a:off x="0" y="379404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36180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34416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3265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30891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0" y="2913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29" name="Group 31"/>
            <p:cNvGrpSpPr/>
            <p:nvPr/>
          </p:nvGrpSpPr>
          <p:grpSpPr>
            <a:xfrm>
              <a:off x="8659800" y="2927520"/>
              <a:ext cx="504720" cy="1011240"/>
              <a:chOff x="8659800" y="2927520"/>
              <a:chExt cx="504720" cy="1011240"/>
            </a:xfrm>
          </p:grpSpPr>
          <p:sp>
            <p:nvSpPr>
              <p:cNvPr id="30" name="Freeform 32"/>
              <p:cNvSpPr/>
              <p:nvPr/>
            </p:nvSpPr>
            <p:spPr>
              <a:xfrm>
                <a:off x="8659800" y="37688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59800" y="3600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659800" y="34322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659800" y="3263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8659800" y="30956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659800" y="292752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8580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DDDC-7F13-40E2-9378-3717E435C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8" name="Rectangle 3"/>
            <p:cNvSpPr/>
            <p:nvPr/>
          </p:nvSpPr>
          <p:spPr>
            <a:xfrm>
              <a:off x="0" y="0"/>
              <a:ext cx="4557600" cy="2590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" name="Rectangle 4"/>
            <p:cNvSpPr/>
            <p:nvPr/>
          </p:nvSpPr>
          <p:spPr>
            <a:xfrm>
              <a:off x="0" y="2590920"/>
              <a:ext cx="4556160" cy="42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0" name="Rectangle 5"/>
            <p:cNvSpPr/>
            <p:nvPr/>
          </p:nvSpPr>
          <p:spPr>
            <a:xfrm>
              <a:off x="4575240" y="0"/>
              <a:ext cx="4557600" cy="259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1" name="Rectangle 6"/>
            <p:cNvSpPr/>
            <p:nvPr/>
          </p:nvSpPr>
          <p:spPr>
            <a:xfrm>
              <a:off x="4575240" y="2590920"/>
              <a:ext cx="4557600" cy="4260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2" name="Rectangle 7"/>
            <p:cNvSpPr/>
            <p:nvPr/>
          </p:nvSpPr>
          <p:spPr>
            <a:xfrm>
              <a:off x="304920" y="4495680"/>
              <a:ext cx="8534160" cy="1828800"/>
            </a:xfrm>
            <a:prstGeom prst="rect">
              <a:avLst/>
            </a:prstGeom>
            <a:gradFill rotWithShape="0">
              <a:gsLst>
                <a:gs pos="0">
                  <a:srgbClr val="00cccc"/>
                </a:gs>
                <a:gs pos="5000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3" name="Rectangle 8"/>
            <p:cNvSpPr/>
            <p:nvPr/>
          </p:nvSpPr>
          <p:spPr>
            <a:xfrm>
              <a:off x="291960" y="731880"/>
              <a:ext cx="8566200" cy="3794040"/>
            </a:xfrm>
            <a:prstGeom prst="rect">
              <a:avLst/>
            </a:prstGeom>
            <a:noFill/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4" name="Rectangle 9"/>
            <p:cNvSpPr/>
            <p:nvPr/>
          </p:nvSpPr>
          <p:spPr>
            <a:xfrm>
              <a:off x="396720" y="825480"/>
              <a:ext cx="8356680" cy="360684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5" name="Rectangle 10"/>
            <p:cNvSpPr/>
            <p:nvPr/>
          </p:nvSpPr>
          <p:spPr>
            <a:xfrm>
              <a:off x="466560" y="909720"/>
              <a:ext cx="8212320" cy="343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86" name="Group 11"/>
            <p:cNvGrpSpPr/>
            <p:nvPr/>
          </p:nvGrpSpPr>
          <p:grpSpPr>
            <a:xfrm>
              <a:off x="4105440" y="0"/>
              <a:ext cx="892080" cy="915840"/>
              <a:chOff x="4105440" y="0"/>
              <a:chExt cx="892080" cy="915840"/>
            </a:xfrm>
          </p:grpSpPr>
          <p:sp>
            <p:nvSpPr>
              <p:cNvPr id="87" name="Freeform 12"/>
              <p:cNvSpPr/>
              <p:nvPr/>
            </p:nvSpPr>
            <p:spPr>
              <a:xfrm>
                <a:off x="42577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8" name="Freeform 13"/>
              <p:cNvSpPr/>
              <p:nvPr/>
            </p:nvSpPr>
            <p:spPr>
              <a:xfrm>
                <a:off x="41054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9" name="Freeform 14"/>
              <p:cNvSpPr/>
              <p:nvPr/>
            </p:nvSpPr>
            <p:spPr>
              <a:xfrm>
                <a:off x="45529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0" name="Freeform 15"/>
              <p:cNvSpPr/>
              <p:nvPr/>
            </p:nvSpPr>
            <p:spPr>
              <a:xfrm>
                <a:off x="44006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1" name="Freeform 16"/>
              <p:cNvSpPr/>
              <p:nvPr/>
            </p:nvSpPr>
            <p:spPr>
              <a:xfrm>
                <a:off x="484668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2" name="Freeform 17"/>
              <p:cNvSpPr/>
              <p:nvPr/>
            </p:nvSpPr>
            <p:spPr>
              <a:xfrm>
                <a:off x="469440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18"/>
            <p:cNvGrpSpPr/>
            <p:nvPr/>
          </p:nvGrpSpPr>
          <p:grpSpPr>
            <a:xfrm>
              <a:off x="0" y="2075040"/>
              <a:ext cx="496800" cy="1058760"/>
              <a:chOff x="0" y="2075040"/>
              <a:chExt cx="496800" cy="1058760"/>
            </a:xfrm>
          </p:grpSpPr>
          <p:sp>
            <p:nvSpPr>
              <p:cNvPr id="94" name="Freeform 19"/>
              <p:cNvSpPr/>
              <p:nvPr/>
            </p:nvSpPr>
            <p:spPr>
              <a:xfrm>
                <a:off x="0" y="29559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5" name="Freeform 20"/>
              <p:cNvSpPr/>
              <p:nvPr/>
            </p:nvSpPr>
            <p:spPr>
              <a:xfrm>
                <a:off x="0" y="2779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6" name="Freeform 21"/>
              <p:cNvSpPr/>
              <p:nvPr/>
            </p:nvSpPr>
            <p:spPr>
              <a:xfrm>
                <a:off x="0" y="26035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7" name="Freeform 22"/>
              <p:cNvSpPr/>
              <p:nvPr/>
            </p:nvSpPr>
            <p:spPr>
              <a:xfrm>
                <a:off x="0" y="2427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8" name="Freeform 23"/>
              <p:cNvSpPr/>
              <p:nvPr/>
            </p:nvSpPr>
            <p:spPr>
              <a:xfrm>
                <a:off x="0" y="225108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>
                <a:off x="0" y="2075040"/>
                <a:ext cx="496800" cy="17748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5"/>
            <p:cNvGrpSpPr/>
            <p:nvPr/>
          </p:nvGrpSpPr>
          <p:grpSpPr>
            <a:xfrm>
              <a:off x="8639280" y="2075040"/>
              <a:ext cx="504720" cy="1011240"/>
              <a:chOff x="8639280" y="2075040"/>
              <a:chExt cx="504720" cy="1011240"/>
            </a:xfrm>
          </p:grpSpPr>
          <p:sp>
            <p:nvSpPr>
              <p:cNvPr id="101" name="Freeform 26"/>
              <p:cNvSpPr/>
              <p:nvPr/>
            </p:nvSpPr>
            <p:spPr>
              <a:xfrm>
                <a:off x="8639280" y="2916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2" name="Freeform 27"/>
              <p:cNvSpPr/>
              <p:nvPr/>
            </p:nvSpPr>
            <p:spPr>
              <a:xfrm>
                <a:off x="8639280" y="27478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3" name="Freeform 28"/>
              <p:cNvSpPr/>
              <p:nvPr/>
            </p:nvSpPr>
            <p:spPr>
              <a:xfrm>
                <a:off x="8639280" y="2579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4" name="Freeform 29"/>
              <p:cNvSpPr/>
              <p:nvPr/>
            </p:nvSpPr>
            <p:spPr>
              <a:xfrm>
                <a:off x="8639280" y="24112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5" name="Freeform 30"/>
              <p:cNvSpPr/>
              <p:nvPr/>
            </p:nvSpPr>
            <p:spPr>
              <a:xfrm>
                <a:off x="8639280" y="22431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6" name="Freeform 31"/>
              <p:cNvSpPr/>
              <p:nvPr/>
            </p:nvSpPr>
            <p:spPr>
              <a:xfrm>
                <a:off x="8639280" y="207504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9686-E264-4B84-A583-0616036C05BF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uffolk.edu/sjc/archive/2010/SJC_10694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Arial"/>
              </a:rPr>
              <a:t>U</a:t>
            </a: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.S. Bank National Association</a:t>
            </a:r>
            <a:br>
              <a:rPr sz="4400"/>
            </a:b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v.</a:t>
            </a:r>
            <a:br>
              <a:rPr sz="4400"/>
            </a:b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Ibane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3" descr="newbanner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8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Times New Roman"/>
              </a:rPr>
              <a:t>VIDEO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cc"/>
                </a:solidFill>
                <a:uFillTx/>
                <a:latin typeface="Times New Roman"/>
                <a:hlinkClick r:id="rId1"/>
              </a:rPr>
              <a:t>http://www.suffolk.edu/sjc/archive/2010/SJC_10694.html</a:t>
            </a:r>
            <a:r>
              <a:rPr b="1" lang="en-US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Times New Roman"/>
              </a:rPr>
              <a:t>U.S. Bank NA v. Ibanez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80880" y="2209680"/>
            <a:ext cx="838224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Arial"/>
              </a:rPr>
              <a:t>PO Box 177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Arial"/>
              </a:rPr>
              <a:t>Casar NC 2802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cc"/>
                </a:solidFill>
                <a:latin typeface="Arial"/>
              </a:rPr>
              <a:t>704.418.2628 (Max Direct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Arial"/>
              </a:rPr>
              <a:t>www.maxbankruptcybootcamp.co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Arial"/>
              </a:rPr>
              <a:t>www.maxgardnerlaw.co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Arial"/>
              </a:rPr>
              <a:t>maxgardner@maxgardner.co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09480" y="685800"/>
            <a:ext cx="792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Arial"/>
              </a:rPr>
              <a:t>Max Gardner’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Arial"/>
              </a:rPr>
              <a:t>Bankruptcy Boot Camp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20:46:06Z</dcterms:created>
  <dc:creator> </dc:creator>
  <dc:description/>
  <dc:language>en-US</dc:language>
  <cp:lastModifiedBy>user1</cp:lastModifiedBy>
  <dcterms:modified xsi:type="dcterms:W3CDTF">2011-01-27T17:34:22Z</dcterms:modified>
  <cp:revision>3</cp:revision>
  <dc:subject/>
  <dc:title>U.S. Bank National Association v. Ibanez</dc:title>
</cp:coreProperties>
</file>